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8D8E-77B8-4EE8-A8A5-D9677EF31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64EE-A3D4-4429-8DE4-5759F73E7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E147-7862-4785-998E-2627378C5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CF4D-0ED2-449E-B77F-2EE9F9D9B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2C49-98AF-4AFC-A544-A55E13546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BE8B-C2A6-4CA3-92F1-9BDD4B3D7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2EB6-638E-4F94-A385-8A1252C7B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3B06-0FE1-4D5A-B218-C6B0E8474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028D-536F-4957-B2C9-C8DCFEB05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7E08-FACB-484A-A448-80903887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96C8-AB33-4D1C-9474-B778F63C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A879-7579-4818-9CE5-15C87A1B6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79EA-7D8D-41F3-8E90-1DFB2DC9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86B1-F82A-4382-9A70-1C71A62EF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C7BA-F78D-42CB-97E5-5A38C079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C9A7-DAD6-44ED-824F-8B268271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3E28-1102-4693-A683-4A7EE9FD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2D6E-D630-4A5A-B2D5-39DF0B13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6CBD-E1E8-4DF1-B03F-9C978853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2CC2-8C3A-4BED-9FFD-AEFBFE9F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F499-E59F-4460-A7CC-A791424D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C628-050A-4ADC-A996-63AEA5C5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F756-E10A-4857-9DF7-6F67DBFC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7701-72A1-4DDF-89DF-31311794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BAB9-4FDC-4F7E-9B3D-DCD48D9F8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085C-BF55-415E-8133-1EEE9A519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E3762-9F5F-4DAB-AA13-0A622A6A9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0A3AB-8A9A-4F3C-9B02-60C27268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E2033-F0E9-4773-9473-233BF892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8CBB9-379B-42F6-8CA8-4B11B5FA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3BAD2-F132-4E24-BD86-6A664755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49EB-32B8-428B-B226-C031BC4D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79DC5-7C07-46D5-A166-DDADDF40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4D68A-CBC3-499D-B494-4152EC93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60441-AE8B-4792-AB1C-2D2047B5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CE349-E37B-42F6-8A0D-D23294C5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17130-F33B-4DF6-9F4A-07AF1E3A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F2A5D-BF6A-4990-BBAE-F464F65BB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77FBA-7173-4EE8-A674-81176F8B2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93F32-FCF8-4F6D-A949-5B3512667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22DA7-7483-4A0F-8FC4-AB6762C1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ABB71-F45B-4A55-8871-D86A4BB2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39A4-F58A-421D-8D7E-CC79FB61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6C2B0-4727-4E6D-9C09-E96FBFF7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EB145-EB7E-4A8B-91BB-21BCA9FA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1381B-0999-45E0-9893-6BC37C15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68C64-1209-400A-98D7-7C8DF0C7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CA389-52BD-4907-BFDC-E5C44A17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01B7D-31E5-438B-9693-CC658C3D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6C20F-A113-4AB7-B568-FFEE849D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70594-9B6E-4DA5-B930-BFE90E464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3B01A-642B-42AA-8336-96E07F0AF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32E7D-C52B-4AE9-85C0-7246A504A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8A20-B48E-4DF4-A005-FC5A143B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542ED-0F2C-4B57-A095-94912DB5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C80CD-CFE7-458F-9F66-A3DA4290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1AB49-3B31-4644-84CF-DDA219DD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3EB8A-CCAF-4D5D-80CE-7B8A23E4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E9CAC-20A5-4F2B-B54F-309B9610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435AD-0C0F-43D5-AB13-A6D05BDA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2FF6F-32AF-4E5F-8588-870F58C5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2D553-FAFE-4C2E-A297-9579F28E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C18A1-9774-4BF7-BEB4-C21BECF4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7F3CB-EEDA-4E6C-9C77-CD9354104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4B83-1911-4A79-8AA8-3D18AACA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CA8A5-FF55-4FED-8C9E-9E995BB81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E880-A6D4-496D-BE46-C8040408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68CE-CBB1-4F35-88B5-E07D3E73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4140-69EC-4C1A-8A53-1D81E330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ADFC-773F-4048-9441-6A6D3F1745E0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ounded Rectangle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5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0ED1-CB3D-418F-B886-DEA1C21690E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6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Rounded Rectangle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0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D535-1FB3-4D52-BD4B-2CB456B84E01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4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2CA0-6AF3-4743-A110-83D9500AC5D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91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8BA3-D1BA-43D6-A920-6AAC889E189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5" descr="AC_ENG_3Colour"/>
          <p:cNvPicPr/>
          <p:nvPr/>
        </p:nvPicPr>
        <p:blipFill>
          <a:blip r:embed="rId1"/>
          <a:stretch/>
        </p:blipFill>
        <p:spPr>
          <a:xfrm>
            <a:off x="2971800" y="2935440"/>
            <a:ext cx="3048120" cy="1103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44" name="Text Box 14"/>
          <p:cNvSpPr/>
          <p:nvPr/>
        </p:nvSpPr>
        <p:spPr>
          <a:xfrm>
            <a:off x="2362320" y="49528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OCASI Training for Employment Support Services     05. 11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2"/>
          <p:cNvSpPr/>
          <p:nvPr/>
        </p:nvSpPr>
        <p:spPr>
          <a:xfrm>
            <a:off x="3124080" y="60958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nded by the Government of Ontar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AC_ENG_3Colour"/>
          <p:cNvPicPr/>
          <p:nvPr/>
        </p:nvPicPr>
        <p:blipFill>
          <a:blip r:embed="rId1"/>
          <a:stretch/>
        </p:blipFill>
        <p:spPr>
          <a:xfrm>
            <a:off x="228600" y="152280"/>
            <a:ext cx="1523880" cy="577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47" name="Text Box 8"/>
          <p:cNvSpPr/>
          <p:nvPr/>
        </p:nvSpPr>
        <p:spPr>
          <a:xfrm>
            <a:off x="990720" y="9144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122f"/>
                </a:solidFill>
                <a:latin typeface="Arial"/>
              </a:rPr>
              <a:t>Backgro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1371600" y="1752480"/>
            <a:ext cx="7010280" cy="41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The Access Centre for Regulated Employment is the first provincially-fund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access centre of its kind outside of the Greater Toronto Are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The Access Centre for Regulated Employment provides accurate licen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information and application assistance to newcomers seeking careers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Ontario’s regulated profess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The project is funded by the Ministry of Citizenship and Immigration and is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partnership of 3 local not-for-profit organizations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WIL Employment Connections (managing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London Cross Cultural Learners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L' Association Canadienne-Francaise de l' Ontario (ACFO), London-Sar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8"/>
          <p:cNvSpPr/>
          <p:nvPr/>
        </p:nvSpPr>
        <p:spPr>
          <a:xfrm>
            <a:off x="99072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122f"/>
                </a:solidFill>
                <a:latin typeface="Arial"/>
              </a:rPr>
              <a:t>Regulated Prof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1371600" y="1828800"/>
            <a:ext cx="34290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Archit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Audiologist and Speech-Langu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Patholog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Certified Engineering Technician an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Technolog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Certified General Accoun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Certified Management Accoun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Chartered Accoun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Chiropodist and Podiatr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Chiropra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Dental Hygien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Dental Technolog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Dent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Dentur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Dietit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Early Childhood Educ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Fore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Land Survey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Lawyer (including Paraleg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Massage Therap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4952880" y="1828800"/>
            <a:ext cx="3886200" cy="46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Medical Laborato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Technolog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Medical Radiation Technolog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Midw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Nu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Occupational Therap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Optic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Optometr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Pharmac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Physic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Physiotherap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Professional Engine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Professional Geoscient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Psycholog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Respiratory Therap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Social Worker and Soci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Service Wor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Tea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Veterinar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AC_ENG_3Colour"/>
          <p:cNvPicPr/>
          <p:nvPr/>
        </p:nvPicPr>
        <p:blipFill>
          <a:blip r:embed="rId1"/>
          <a:stretch/>
        </p:blipFill>
        <p:spPr>
          <a:xfrm>
            <a:off x="228600" y="152280"/>
            <a:ext cx="1523880" cy="577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AC_ENG_3Colour"/>
          <p:cNvPicPr/>
          <p:nvPr/>
        </p:nvPicPr>
        <p:blipFill>
          <a:blip r:embed="rId1"/>
          <a:stretch/>
        </p:blipFill>
        <p:spPr>
          <a:xfrm>
            <a:off x="228600" y="152280"/>
            <a:ext cx="1523880" cy="577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54" name="Text Box 11"/>
          <p:cNvSpPr/>
          <p:nvPr/>
        </p:nvSpPr>
        <p:spPr>
          <a:xfrm>
            <a:off x="1371600" y="1066680"/>
            <a:ext cx="7010280" cy="44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3122f"/>
                </a:solidFill>
                <a:latin typeface="Arial"/>
              </a:rPr>
              <a:t>Clien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Access Centre partners with ITI's in a business relationship with the goal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licensure or employment in a regulated prof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Provide current and credible information and application assistance in a context of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each individuals education, career history and personal go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c00000"/>
                </a:solidFill>
                <a:latin typeface="Arial"/>
              </a:rPr>
              <a:t>Community Agen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95959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595959"/>
                </a:solidFill>
                <a:latin typeface="Arial"/>
              </a:rPr>
              <a:t>Access Centre provides an adjunct service for employment counsellors, settlement and library workers in the reg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3122f"/>
                </a:solidFill>
                <a:latin typeface="Arial"/>
              </a:rPr>
              <a:t>Employ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Access Centre is one of the ‘tools’ in place for companies to effective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connect with immigrant t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5" descr="AC_ENG_3Colour"/>
          <p:cNvPicPr/>
          <p:nvPr/>
        </p:nvPicPr>
        <p:blipFill>
          <a:blip r:embed="rId1"/>
          <a:stretch/>
        </p:blipFill>
        <p:spPr>
          <a:xfrm>
            <a:off x="228600" y="152280"/>
            <a:ext cx="1523880" cy="577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56" name="Text Box 10"/>
          <p:cNvSpPr/>
          <p:nvPr/>
        </p:nvSpPr>
        <p:spPr>
          <a:xfrm>
            <a:off x="990720" y="1066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122f"/>
                </a:solidFill>
                <a:latin typeface="Arial"/>
              </a:rPr>
              <a:t>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4"/>
          <p:cNvSpPr/>
          <p:nvPr/>
        </p:nvSpPr>
        <p:spPr>
          <a:xfrm>
            <a:off x="-76320" y="1143000"/>
            <a:ext cx="106704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1295280" y="1600200"/>
            <a:ext cx="701064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Help Internationally trained immigrants understand and navigate the complex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licensure process in Ont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Help client’s understand international equivalencies including source verification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make informed  career and licensure related decisions (WES, ICAS,CES et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Facilitate document procurement  from educational institutions, ministries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education, library archives, previous employ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Facilitate legal  requirements in the document process (notarization, attestation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Ensure ITI’s submit favourable applications to their regulatory bod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Assist with post application requirements for those interested in achieving ful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licensure in their fie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666666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AC_ENG_3Colour"/>
          <p:cNvPicPr/>
          <p:nvPr/>
        </p:nvPicPr>
        <p:blipFill>
          <a:blip r:embed="rId1"/>
          <a:stretch/>
        </p:blipFill>
        <p:spPr>
          <a:xfrm>
            <a:off x="228600" y="152280"/>
            <a:ext cx="1523880" cy="577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60" name="Text Box 8"/>
          <p:cNvSpPr/>
          <p:nvPr/>
        </p:nvSpPr>
        <p:spPr>
          <a:xfrm>
            <a:off x="990720" y="1066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122f"/>
                </a:solidFill>
                <a:latin typeface="Arial"/>
              </a:rPr>
              <a:t>Barriers to Licen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1371600" y="2133720"/>
            <a:ext cx="7010280" cy="39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Some of the more common barriers faced by Internationally Trained Immigrants  (ITI’s) in regulated professions 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Credential recogni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Work experience recogn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Recency of pract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Canadian experience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Language and commun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Costs associated with licensure ( Application fees, translations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Post application examination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5" descr="AC_ENG_3Colour"/>
          <p:cNvPicPr/>
          <p:nvPr/>
        </p:nvPicPr>
        <p:blipFill>
          <a:blip r:embed="rId1"/>
          <a:stretch/>
        </p:blipFill>
        <p:spPr>
          <a:xfrm>
            <a:off x="228600" y="152280"/>
            <a:ext cx="1523880" cy="577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63" name="Text Box 10"/>
          <p:cNvSpPr/>
          <p:nvPr/>
        </p:nvSpPr>
        <p:spPr>
          <a:xfrm>
            <a:off x="990720" y="1066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122f"/>
                </a:solidFill>
                <a:latin typeface="Arial"/>
              </a:rPr>
              <a:t>Good N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4"/>
          <p:cNvSpPr/>
          <p:nvPr/>
        </p:nvSpPr>
        <p:spPr>
          <a:xfrm>
            <a:off x="-76320" y="1143000"/>
            <a:ext cx="106704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6"/>
          <p:cNvSpPr/>
          <p:nvPr/>
        </p:nvSpPr>
        <p:spPr>
          <a:xfrm>
            <a:off x="1295280" y="1600200"/>
            <a:ext cx="70106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The Office of the Fairness Commissioner repor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The professions with the highest proportion of internationally trained members 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Pharmacy 3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Audiology and Speech Language Pathology  3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Chiropractic  2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Dental Technology  2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Physicians and Surgeons  2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Dentals Surgeons  2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Engineering  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8"/>
          <p:cNvSpPr/>
          <p:nvPr/>
        </p:nvSpPr>
        <p:spPr>
          <a:xfrm>
            <a:off x="990720" y="10666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122f"/>
                </a:solidFill>
                <a:latin typeface="Arial"/>
              </a:rPr>
              <a:t>Contac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9"/>
          <p:cNvSpPr/>
          <p:nvPr/>
        </p:nvSpPr>
        <p:spPr>
          <a:xfrm>
            <a:off x="990720" y="2286000"/>
            <a:ext cx="60195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Access Centre for Regulated Employ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171 Queens Avenue, Suite 3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London, ON  N6A 5J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info@accesscentre.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www.accesscentre.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Tel: 519.858.23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Fax: 519.858.54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1" descr="171 Queens Avenue"/>
          <p:cNvPicPr/>
          <p:nvPr/>
        </p:nvPicPr>
        <p:blipFill>
          <a:blip r:embed="rId1"/>
          <a:stretch/>
        </p:blipFill>
        <p:spPr>
          <a:xfrm>
            <a:off x="5715000" y="3962520"/>
            <a:ext cx="1971720" cy="1809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69" name="Picture 12" descr="AC_ENG_3Colour"/>
          <p:cNvPicPr/>
          <p:nvPr/>
        </p:nvPicPr>
        <p:blipFill>
          <a:blip r:embed="rId2"/>
          <a:stretch/>
        </p:blipFill>
        <p:spPr>
          <a:xfrm>
            <a:off x="228600" y="152280"/>
            <a:ext cx="1523880" cy="577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sse Morrice</dc:creator>
  <dc:description/>
  <dc:language>en-US</dc:language>
  <cp:lastModifiedBy>aholmes</cp:lastModifiedBy>
  <dcterms:modified xsi:type="dcterms:W3CDTF">2011-09-06T15:46:43Z</dcterms:modified>
  <cp:revision>2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